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Seminář pro žadatele – oblast podpory 2.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7F9C93-6130-4A36-9A09-9F6D37E859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lší kritéria – právnická osoba, nesmí být v úpadku, splňuje podmínky bezdlužnosti vůči veřejné správě a zdravotním pojišťovná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ECA561-102F-48AA-8A16-C93453DB99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kon 182/2006 Sb., o úpadku a způsobech jeho řešení (insolvenční zák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1D2FAD-8DDE-4E0D-87F9-3E21C2483B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ba udržitelnosti bude stanovena v právním aktu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85B86B-DCD1-4645-9B1F-FFA92AD55E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zor na nefinalizaci žádosti – neopraviteln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ritéria přijatelnosti: oprávněný žadatel, sídlo na území ČR, partner splňuje podmínky oprávněnosti, KA jsou v souladu s výzvou, CS jsou v souladu s CS stanovenými výzvou, doba trvání projektu, požadovaná výše finanční podp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BA077B-EAE7-40F3-B5D7-388BE10FC0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kon č. 111/1998 Sb. o vysokých školách a o změně a doplnění dalších zákonů, ve znění pozdějších předpis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kon č. 341/2005 Sb., o veřejných výzkumných institucích, ve znění pozdějších předpis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kon č. 130/2002 Sb., o podpoře výzkumu, experimentálního vývoje a inovací z veřejných prostředků a o změně některých souvisejících zákon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CF8CA8-5C47-4405-9232-FF583B154D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D96E-8EA9-43E8-8910-92713D851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EAA6-FB25-4B29-A5EA-9FB186F8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A129-B4FA-4B71-B6F4-CD2A81D28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27CC-2D10-4D92-9D96-3D990EA2F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8C4E-5C8C-4687-BE25-99836521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9902-F896-4556-B932-6D955C80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1CA6-D7E9-4729-9DB8-3DD73CC4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AA13-163E-4B97-9E17-327EBA55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D2E3-02AA-4FC7-8452-63EA6AF0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79F7-1C11-4D98-9D4A-3F08AA48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1EF0-87AA-4055-99B7-4F297D55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E118-F900-4DC2-9917-0DEBCB7E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EDD0A5-056E-46BE-9B0B-ED525C65379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9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7A48A3-A48D-4C0E-A7BE-7FFA9B2CF8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CE415AF7-D290-4F9C-825A-8742D23E63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3020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590920" y="5495760"/>
            <a:ext cx="4267080" cy="84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160640"/>
            <a:ext cx="7434360" cy="26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f39800"/>
                </a:solidFill>
                <a:latin typeface="Helvetica CE"/>
              </a:rPr>
              <a:t>Seminář pro žadatele o finanční podporu – oblast podpory 2.2 Vysokoškolské vzdělávání</a:t>
            </a:r>
            <a:endParaRPr b="1" lang="en-US" sz="3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31680" y="3411000"/>
            <a:ext cx="7188120" cy="21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Helvetica CE"/>
              </a:rPr>
              <a:t>Veronika Šišperová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29840" y="1260360"/>
            <a:ext cx="6458040" cy="9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Doba trvání a území dopadu podporovaných aktivi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27160" y="2565000"/>
            <a:ext cx="707544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Helvetica CE"/>
              </a:rPr>
              <a:t>Území dopadu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: všechny regiony České republiky mimo území NUTS II hl. města Prah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(</a:t>
            </a:r>
            <a:r>
              <a:rPr b="1" lang="cs-CZ" sz="2400" spc="-1" strike="noStrike">
                <a:solidFill>
                  <a:srgbClr val="e46c0a"/>
                </a:solidFill>
                <a:latin typeface="Helvetica CE"/>
              </a:rPr>
              <a:t>Místo realizace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: sídlo žadatele může být na celém území ČR včetně NUTS II hl. m. Prahy)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DD8551-C55A-40D3-A822-BF221E2C22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artnerstv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329840" y="2228760"/>
            <a:ext cx="645804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samostatně nebo ve spolupráci s partnerskými organizacemi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artnerství nesmí nahrazovat poskytování běžně dostupných služeb na trhu ani dodávku běžného zboží (partner nesmí být skrytým dodavatelem)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128859-8219-435D-9073-775D17A24F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artner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330200" y="1952640"/>
            <a:ext cx="686448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 finančním příspěvkem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bez finančního příspěvk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Kritéria dle Příručky pro žadatele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ávnická osob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ídlo na území ČR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ní v úpadku podle zákona č. 182/2006 Sb., není proti němu vedena exekuce nebo výkon rozhodnutí nebo není v likvidaci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plňuje podmínky bezdlužnosti vůči státní správě a ZP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61ECCA-4794-469A-88F1-0451E7CEFA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Monitorování projektů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330200" y="2147760"/>
            <a:ext cx="663264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vinnost v průběhu realizace projektu sledovat naplňování monitorovacích indikátorů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eznam monitorovacích indikátorů je uveden v Příloze č. 2 této výzv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etodika monitorovacích indikátorů: http://www.msmt.cz/strukturalni-fondy/monitorovaci-zprava-a-jeji-prilohy-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688303-BAAA-41C8-A73E-3A44A2A477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Udržitelnost projektu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60280" y="1952280"/>
            <a:ext cx="704196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 rámci této výzvy se neuplatní podmínky udržitelnosti stanovené v kap. 6.4 Příručky pro žadatele OP VK, verze 6 účinné od 30.10.2009. V rámci této výzvy není udržitelnost projektů poskytovatelem vyžadována.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C9DA13-6457-443E-B31F-E3888CC9CA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působ výběru projektů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29840" y="195264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formální náležitosti – opravitel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kritéria přijatelnosti – neopravitel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grémium zpravodajů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konečné schválení – ministr/ministryně školství, mládeže a tělovýchov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(Kritéria hodnocení – Příručka pro příjemce)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Helvetica CE"/>
              </a:rPr>
              <a:t>bodová bonifikace – potvrzení města o IPRM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872CDE-D99A-48B0-AEDC-A2330360BA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91996E-D591-4F8A-9150-664D75FEC1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roces hodnoce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29840" y="2068560"/>
            <a:ext cx="64580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ijetí a registrace žádosti </a:t>
            </a:r>
            <a:r>
              <a:rPr b="0" lang="cs-CZ" sz="1400" spc="-1" strike="noStrike">
                <a:solidFill>
                  <a:srgbClr val="7f7f7f"/>
                </a:solidFill>
                <a:latin typeface="Helvetica CE"/>
              </a:rPr>
              <a:t>(Odbor CERA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Formální hodnocení </a:t>
            </a:r>
            <a:r>
              <a:rPr b="0" lang="cs-CZ" sz="1400" spc="-1" strike="noStrike">
                <a:solidFill>
                  <a:srgbClr val="7f7f7f"/>
                </a:solidFill>
                <a:latin typeface="Helvetica CE"/>
              </a:rPr>
              <a:t>(PM/FM Odboru CERA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Hodnocení přijatelnosti </a:t>
            </a:r>
            <a:r>
              <a:rPr b="0" lang="cs-CZ" sz="1400" spc="-1" strike="noStrike">
                <a:solidFill>
                  <a:srgbClr val="7f7f7f"/>
                </a:solidFill>
                <a:latin typeface="Helvetica CE"/>
              </a:rPr>
              <a:t>(gestor ŘO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Hodnocení věcné </a:t>
            </a:r>
            <a:r>
              <a:rPr b="0" lang="cs-CZ" sz="1400" spc="-1" strike="noStrike">
                <a:solidFill>
                  <a:srgbClr val="7f7f7f"/>
                </a:solidFill>
                <a:latin typeface="Helvetica CE"/>
              </a:rPr>
              <a:t>(hodnotitelé, zpravodaj, Grémium zpravodajů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Vyrozumění o výsledku hodnocení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a uzavření právního a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Šipka doprava 6"/>
          <p:cNvSpPr/>
          <p:nvPr/>
        </p:nvSpPr>
        <p:spPr>
          <a:xfrm rot="5400000">
            <a:off x="4386240" y="2457360"/>
            <a:ext cx="285840" cy="216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Šipka doprava 7"/>
          <p:cNvSpPr/>
          <p:nvPr/>
        </p:nvSpPr>
        <p:spPr>
          <a:xfrm rot="5400000">
            <a:off x="4387680" y="3141720"/>
            <a:ext cx="285840" cy="216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Šipka doprava 8"/>
          <p:cNvSpPr/>
          <p:nvPr/>
        </p:nvSpPr>
        <p:spPr>
          <a:xfrm rot="5400000">
            <a:off x="4389480" y="3800520"/>
            <a:ext cx="285840" cy="216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Šipka doprava 9"/>
          <p:cNvSpPr/>
          <p:nvPr/>
        </p:nvSpPr>
        <p:spPr>
          <a:xfrm rot="5400000">
            <a:off x="4390920" y="4441680"/>
            <a:ext cx="285840" cy="216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3"/>
          <p:cNvSpPr/>
          <p:nvPr/>
        </p:nvSpPr>
        <p:spPr>
          <a:xfrm rot="16200000">
            <a:off x="-608400" y="35074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7 měsí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evá složená závorka 11"/>
          <p:cNvSpPr/>
          <p:nvPr/>
        </p:nvSpPr>
        <p:spPr>
          <a:xfrm>
            <a:off x="1330200" y="2209680"/>
            <a:ext cx="347760" cy="3108600"/>
          </a:xfrm>
          <a:custGeom>
            <a:avLst/>
            <a:gdLst>
              <a:gd name="textAreaLeft" fmla="*/ 222120 w 347760"/>
              <a:gd name="textAreaRight" fmla="*/ 348120 w 347760"/>
              <a:gd name="textAreaTop" fmla="*/ 9000 h 3108600"/>
              <a:gd name="textAreaBottom" fmla="*/ 3099600 h 310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1"/>
                  <a:pt x="10800" y="201"/>
                </a:cubicBezTo>
                <a:lnTo>
                  <a:pt x="10800" y="10599"/>
                </a:lnTo>
                <a:cubicBezTo>
                  <a:pt x="10800" y="10700"/>
                  <a:pt x="5400" y="10800"/>
                  <a:pt x="0" y="10800"/>
                </a:cubicBezTo>
                <a:cubicBezTo>
                  <a:pt x="5400" y="10800"/>
                  <a:pt x="10800" y="10901"/>
                  <a:pt x="10800" y="11001"/>
                </a:cubicBezTo>
                <a:lnTo>
                  <a:pt x="10800" y="21399"/>
                </a:lnTo>
                <a:cubicBezTo>
                  <a:pt x="10800" y="215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jčastější chyb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44080" y="1952280"/>
            <a:ext cx="6907320" cy="36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Žádost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byla finalizovaná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Žádost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byla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odevzdaná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v termín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A neodpovídají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aktivitám stanoveným ve výzvě (např. řízení projektu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artner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ní právnickou osobo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artner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je skrytým dodavatelem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S nejsou v souladu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 výzvou (studenti pražských VŠ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řekročena max. doba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trvání projektu (např. 37 měsíců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žadované fin. prostředky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jsou ve stanoveném limi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řekročeny limity kapito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dodrženo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stanovené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rocento nepřímých nákladů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19E415-2C19-4038-831E-41598B30FD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ředkládání projektů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329840" y="1952280"/>
            <a:ext cx="6458040" cy="32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Osobně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ŠMT – odbor CERA, Corso IIa, Křižíkova 34/148, Praha 8 – Karlín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oštou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ŠMT – odbor CERA, Karmelitská 7, 118 12 Praha 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o </a:t>
            </a:r>
            <a:r>
              <a:rPr b="1" lang="cs-CZ" sz="2000" spc="-1" strike="noStrike">
                <a:solidFill>
                  <a:srgbClr val="e46c0a"/>
                </a:solidFill>
                <a:latin typeface="Helvetica CE"/>
              </a:rPr>
              <a:t>11. února 2011 (15. dubna 2011, 25. listopadu 2011) v 13:00 hodin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– rozhoduje datum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oručení zásilky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, nikoliv datum odeslání.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1EB58D-0E49-4598-8784-215C4B09FA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sah obálk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finalizovaná projektová žádost vytištěna z Benefitu (stejný hash code jako elektronická verze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ojené přílohy (1. stránka: „Seznam příloh“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CD-R: nahraná finalizovaná benefitová žádost a všechny přílohy ve formátu .pdf (naskenované s podpisy, včetně seznamu příloh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slední kontrola žádosti před odevzdáním – příručka pro žadatele (verze 6) – str. 50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0E18A3-8713-463F-AC03-7224FF2F85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Helvetica CE"/>
              </a:rPr>
              <a:t>Obsah semináře</a:t>
            </a:r>
            <a:endParaRPr b="1" lang="en-US" sz="3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371600" y="2681280"/>
            <a:ext cx="6283440" cy="25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 algn="just">
              <a:spcBef>
                <a:spcPts val="700"/>
              </a:spcBef>
              <a:buClr>
                <a:srgbClr val="000000"/>
              </a:buClr>
              <a:buFont typeface="Helvetica CE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Základní informace k výzvě 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399960" indent="-399960" algn="just">
              <a:spcBef>
                <a:spcPts val="700"/>
              </a:spcBef>
              <a:buClr>
                <a:srgbClr val="000000"/>
              </a:buClr>
              <a:buFont typeface="Helvetica CE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Věcná část výzvy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399960" indent="-399960" algn="just">
              <a:spcBef>
                <a:spcPts val="700"/>
              </a:spcBef>
              <a:buClr>
                <a:srgbClr val="000000"/>
              </a:buClr>
              <a:buFont typeface="Helvetica CE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Finanční řízení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399960" indent="-399960" algn="just">
              <a:spcBef>
                <a:spcPts val="700"/>
              </a:spcBef>
              <a:buClr>
                <a:srgbClr val="000000"/>
              </a:buClr>
              <a:buFont typeface="Helvetica CE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Diskuze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A76927-7B4C-4CA2-8575-49142516A4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Materiály a zdroje informac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2200" y="1952640"/>
            <a:ext cx="7791480" cy="36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http://www.msmt.cz/strukturalni-fondy/pro-zadatel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00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ýzvy: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Text výzvy 2.2  +  Přílohy č. 1 až 8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íručka pro žadatele: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říručka pro žadatele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(verze 6, platná od 21.10.2010)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Webová aplikace Benefit7: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Jak vyplnit webovou žádos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99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http://www.msmt.cz/strukturalni-fondy/zakladni-dokumenty-a-zpracovatel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00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rováděcí dokument OP VK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(aktuální verze)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FA3433-B558-4C9F-95AD-31B18F2450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Doporuče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29840" y="195264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oulad projektu s </a:t>
            </a:r>
            <a:r>
              <a:rPr b="1" lang="cs-CZ" sz="2000" spc="-1" strike="noStrike">
                <a:solidFill>
                  <a:srgbClr val="e46c0a"/>
                </a:solidFill>
                <a:latin typeface="Helvetica CE"/>
              </a:rPr>
              <a:t>pravidly OP VK a pravidly stanovenými výzvou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(nutné respektovat).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rojekt by měl mít logickou posloupnost, řešit definovaný problém, jasně stanovené měřitelné a reálně dosažitelné cíle, vycházet z potřeb cílové skupiny a být </a:t>
            </a:r>
            <a:r>
              <a:rPr b="1" lang="cs-CZ" sz="2000" spc="-1" strike="noStrike">
                <a:solidFill>
                  <a:srgbClr val="e46c0a"/>
                </a:solidFill>
                <a:latin typeface="Helvetica CE"/>
              </a:rPr>
              <a:t>jasně napsaný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(bez možnosti dalšího vysvětlování).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959E95-E94B-4036-B186-8D87A896A8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ontakt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60280" y="2155680"/>
            <a:ext cx="6864120" cy="33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kontaktní místo: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odbor CERA (46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ožnost realizace osobních konzultací po telefonické či elektronické dohodě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kontaktní osoba: 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Ing. Veronika Šišperov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tel.: 234 814 236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e-mail: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Helvetica CE"/>
              </a:rPr>
              <a:t>veronika.sisperova@msmt.cz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roblémy s vyplněním webové žádosti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e-mail: </a:t>
            </a:r>
            <a:r>
              <a:rPr b="1" lang="cs-CZ" sz="1800" spc="-1" strike="noStrike">
                <a:solidFill>
                  <a:srgbClr val="0070c0"/>
                </a:solidFill>
                <a:latin typeface="Helvetica CE"/>
              </a:rPr>
              <a:t>help_opvk@msmt.cz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9808FE-334F-4817-B719-D518696E31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347480"/>
            <a:ext cx="743436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000" spc="-1" strike="noStrike">
                <a:solidFill>
                  <a:srgbClr val="f39800"/>
                </a:solidFill>
                <a:latin typeface="Helvetica CE"/>
              </a:rPr>
              <a:t>Děkuji za pozornost</a:t>
            </a:r>
            <a:endParaRPr b="1" lang="en-US" sz="4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2419200"/>
            <a:ext cx="6400800" cy="28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Helvetica CE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329840" y="195264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Helvetica CE"/>
              </a:rPr>
              <a:t>Základní informace k výzvě</a:t>
            </a:r>
            <a:endParaRPr b="0" lang="en-US" sz="4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EBB6F5-C50A-4EC6-8A95-B66CD8818E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9200" y="1248840"/>
            <a:ext cx="710892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Výzva, termíny výzvy, doba trván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133280" y="1815840"/>
            <a:ext cx="72500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číslo výzvy v informačním systému: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28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(Prioritní osa: 2 – Terciární vzdělávání, výzkum a vývoj, Oblast podpory 2.2 – Vysokoškolské vzdělávání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atum vyhlášení výzvy: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11. ledna 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atum ukončení výzvy: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25. listopadu 2011ve 13:00 hod.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typ výzvy: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růběžn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oba trvání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ředkládaných projektů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: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ax. 36 měsíců, ukončení projektu nejpozději 30. 6. 2015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DF85E3-12CC-4FD1-8FEF-C840AD5F68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9200" y="1248840"/>
            <a:ext cx="710892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Termíny předkládání žádost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7. – 11. února 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11. – 15. dubna 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21. – 25. listopadu 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ždy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o 13:00 hod.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v den ukončení příjmu žádost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784771-ED72-4A8E-AC3A-C951DF4B38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Finanční alokac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60640" y="2155680"/>
            <a:ext cx="7526160" cy="33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celková částka alokovaná pro výzvu: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2 000 000 000,- K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mezení výše finanční podpory </a:t>
            </a:r>
            <a:r>
              <a:rPr b="0" lang="cs-CZ" sz="2000" spc="-1" strike="noStrike">
                <a:solidFill>
                  <a:srgbClr val="e46c0a"/>
                </a:solidFill>
                <a:latin typeface="Helvetica CE"/>
              </a:rPr>
              <a:t>na 1 individuální projekt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statní (IPo)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in. výše finanční podpory na 1 projekt:  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10 000 000 K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ax. výše finanční podpory na 1 projekt: 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100 000 000 K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4385B1-B98A-4EB9-A50D-44B7FE5BA9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právnění žadatelé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330200" y="2306160"/>
            <a:ext cx="6640560" cy="30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Helvetica CE"/>
              </a:rPr>
              <a:t>vysoké školy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(dle zákona č.111/1998 Sb., o vysokých školách a o změně a doplnění dalších zákonů)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403D36-78DD-468B-9271-196C61D72D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právněnost žadatel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144440" y="2171520"/>
            <a:ext cx="681048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alší kritéria dle Příručky pro žadatele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ení v úpadku podle zákona č. 182/2006 Sb., není proti němu vedena exekuce nebo výkon rozhodnutí nebo není v likvidaci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lňuje podmínky bezdlužnosti vůči státní správě a ZP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9A8C51-F758-46AD-8C41-A3897D7D72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29840" y="1095120"/>
            <a:ext cx="645804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Cílové skupin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329840" y="1952280"/>
            <a:ext cx="645804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tudenti V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Akademičtí pracovníci V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statní pracovníci V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teří studují nebo pracují v regionech ČR </a:t>
            </a:r>
            <a:r>
              <a:rPr b="1" lang="cs-CZ" sz="1800" spc="-1" strike="noStrike">
                <a:solidFill>
                  <a:srgbClr val="e46c0a"/>
                </a:solidFill>
                <a:latin typeface="Helvetica CE"/>
              </a:rPr>
              <a:t>mimo území NUTS II hl. města Prahy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(tzn. v regionech ČR spadajících do Cíle Konvergence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409598-7DEC-4558-9F0D-787A37A18E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1-01-17T07:26:05Z</dcterms:modified>
  <cp:revision>138</cp:revision>
  <dc:subject/>
  <dc:title>Titulní strana – Titulek</dc:title>
</cp:coreProperties>
</file>